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180-FFD2-4A27-8922-ECD2C710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You must create an introductory monologue, it should only be 15 - 45 second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oduce yourself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Let the audience know who they are listening 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e your introductory script here.  Make sure to write everything you are going to s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oduce your topic.  You could say something like  “Today we are going to discus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 Write your introduction here.  These are the actual lines you are going to be reco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e Intro music jingle should only be about 25- 45 seconds longs.  Don’t let it become too overpow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you can have broadca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ideas for different bits of introductor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remember to adjust the volume level, so that it doesn’t overpower the spea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how you will deliver your content.  What type of format?  Will you use a Talk Show, Radio Show, How to, PSA, Interview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en write your script for your show.  Write lines for each person in your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n’t forget to say goodbye, hasta la vist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ank your guest for making an appearance, and invite them to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be your topic for the next podc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detail your script accu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r listening audience, and remind them to stay tuned for the next installment of the shcw, program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rite your script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sert closing music jingle for your podc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307-31A4-4A79-911B-A3B5D35A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919-36AA-41D5-8CB8-9102FF1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34D-E74E-4E9C-B91C-A8B218D5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454-0688-4DEA-9E3B-A147BC7A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4C4-836E-40C6-B89D-9CFDA9B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139-BD5B-4467-A826-CC285C2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254-A509-4C67-B3BB-1226FBB4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A25-1977-4EE8-A347-C12865B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C0E-7FE2-44D4-AE67-9772B42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54E-8A9D-440E-A6DA-7A72340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261-77E8-43B3-8BA0-9E6C4D2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A32-733A-4C40-A660-28BF9DC8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2051-834B-408F-91C7-DF24BD89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achertube.com/v.php?viewkey=0caf60d28b852556d52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952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98960" cy="601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24800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8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25360"/>
            <a:ext cx="86108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247680"/>
            <a:ext cx="883944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981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irst…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reate a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33920" y="768240"/>
            <a:ext cx="1600200" cy="18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e sure to include 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 W3"/>
              </a:rPr>
              <a:t>_x0016__x0016_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ro Monologue 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(15-45 second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o are you? 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you’re going to talk about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2057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ro Music Jingle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(25-45 second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feel of music do you wa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jingle can play in the background of your intro monologue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2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go of Pod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P3 Player – is a portable device that is usually smaller than a cassette tape.  Often associated with downloading music from the internet, stores, organizes, and plays digital music files.  An iPod is an example of a MP3 P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casting is derived from two words: iPod and Broad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S – Real simple syn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Show Content/Topic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(3-4 minute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is your top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334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w will you deliver the content?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alk Show, How to, PSA, Interview,…)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Closing Remarks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(1-2 minu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ank g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lk about the next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ank your audienc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 Scrip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Closing Music Ji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5345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326880"/>
            <a:ext cx="86104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917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87280"/>
            <a:ext cx="86868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124160" cy="6086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238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01680"/>
            <a:ext cx="8686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040" y="24444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casting 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mmon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351080"/>
            <a:ext cx="769608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572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ducation U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ng with Po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chool information, orientation and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odcasts as supplement for existing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udent created book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nterviews with characters and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our of library, schoo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in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odcasts for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Podcast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udiobooks of works in the public domain (librovox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Oral Hi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99880"/>
            <a:ext cx="86868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525600"/>
            <a:ext cx="800100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7:37:12Z</dcterms:created>
  <dc:creator>bking</dc:creator>
  <dc:description/>
  <dc:language>en-US</dc:language>
  <cp:lastModifiedBy>bking</cp:lastModifiedBy>
  <dcterms:modified xsi:type="dcterms:W3CDTF">2008-10-17T17:14:13Z</dcterms:modified>
  <cp:revision>9</cp:revision>
  <dc:subject/>
  <dc:title>Slide 1</dc:title>
</cp:coreProperties>
</file>